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6CC7-E78D-4478-B8E1-546233F1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1567-2380-4816-AFAB-2B667F47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8EF6-C9E4-4AC0-9183-66E027A4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C634-95FD-4B53-BDE4-C652CE7FA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095B-A7D8-4D37-832C-CC767945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30F3-0A2B-430E-A9AF-0D4C2CFA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F62C-D751-4898-8E1C-38E0E16C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0F0E-07C0-4BAB-8686-3A63F0A5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6583-5E1E-46D3-8125-6CA349BC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64D8-5783-4095-985B-07464D96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E203-657C-4FD2-AA95-0FC545FD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4038-6E75-43C5-9DAA-BCEEC568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2D9D-907C-42EE-8CAB-A07EC361F5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8"/>
          <p:cNvSpPr/>
          <p:nvPr/>
        </p:nvSpPr>
        <p:spPr>
          <a:xfrm>
            <a:off x="3738600" y="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BADGES  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3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LFWAY  100TH                   WEST  BARNS  100TH                   LAURIESTON  100TH                        CALLLENDAR  MW                  CLYDESDALE ASSOC       STRANRAER PRIVATE INDO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3"/>
          <p:cNvSpPr/>
          <p:nvPr/>
        </p:nvSpPr>
        <p:spPr>
          <a:xfrm>
            <a:off x="0" y="472428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5"/>
          <p:cNvSpPr/>
          <p:nvPr/>
        </p:nvSpPr>
        <p:spPr>
          <a:xfrm>
            <a:off x="0" y="3357720"/>
            <a:ext cx="812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5"/>
          <p:cNvSpPr/>
          <p:nvPr/>
        </p:nvSpPr>
        <p:spPr>
          <a:xfrm>
            <a:off x="8048520" y="3357720"/>
            <a:ext cx="165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4" descr="Halfway 100th.jpg"/>
          <p:cNvPicPr/>
          <p:nvPr/>
        </p:nvPicPr>
        <p:blipFill>
          <a:blip r:embed="rId1"/>
          <a:stretch/>
        </p:blipFill>
        <p:spPr>
          <a:xfrm>
            <a:off x="488880" y="189000"/>
            <a:ext cx="1074960" cy="1363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5" descr="West Barns 100th.jpg"/>
          <p:cNvPicPr/>
          <p:nvPr/>
        </p:nvPicPr>
        <p:blipFill>
          <a:blip r:embed="rId2"/>
          <a:stretch/>
        </p:blipFill>
        <p:spPr>
          <a:xfrm>
            <a:off x="2000160" y="333360"/>
            <a:ext cx="1158840" cy="1241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6" descr="Laurieston 100th.jpg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3657600" y="404640"/>
            <a:ext cx="1020600" cy="1197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Callendar MW 5.jpg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5097600" y="404640"/>
            <a:ext cx="1317600" cy="120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Clydesdale Assoc.jpg"/>
          <p:cNvPicPr/>
          <p:nvPr/>
        </p:nvPicPr>
        <p:blipFill>
          <a:blip r:embed="rId5">
            <a:lum bright="30000"/>
          </a:blip>
          <a:stretch/>
        </p:blipFill>
        <p:spPr>
          <a:xfrm>
            <a:off x="6681960" y="620640"/>
            <a:ext cx="958680" cy="944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Stranraer Private.jpg"/>
          <p:cNvPicPr/>
          <p:nvPr/>
        </p:nvPicPr>
        <p:blipFill>
          <a:blip r:embed="rId6"/>
          <a:stretch/>
        </p:blipFill>
        <p:spPr>
          <a:xfrm>
            <a:off x="8193240" y="549360"/>
            <a:ext cx="1020600" cy="1004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Corunna 6.jpg"/>
          <p:cNvPicPr/>
          <p:nvPr/>
        </p:nvPicPr>
        <p:blipFill>
          <a:blip r:embed="rId7"/>
          <a:stretch/>
        </p:blipFill>
        <p:spPr>
          <a:xfrm>
            <a:off x="415800" y="1989000"/>
            <a:ext cx="1204920" cy="1195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4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RUNNA                                BON  ACCO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Bon Accord 2.jpg"/>
          <p:cNvPicPr/>
          <p:nvPr/>
        </p:nvPicPr>
        <p:blipFill>
          <a:blip r:embed="rId8"/>
          <a:stretch/>
        </p:blipFill>
        <p:spPr>
          <a:xfrm>
            <a:off x="1928880" y="1989000"/>
            <a:ext cx="1227240" cy="1257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Bon Accord  23.jpg"/>
          <p:cNvPicPr/>
          <p:nvPr/>
        </p:nvPicPr>
        <p:blipFill>
          <a:blip r:embed="rId9">
            <a:lum bright="40000"/>
          </a:blip>
          <a:stretch/>
        </p:blipFill>
        <p:spPr>
          <a:xfrm>
            <a:off x="3440160" y="2060640"/>
            <a:ext cx="128916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3-06-03T18:34:00Z</dcterms:modified>
  <cp:revision>115</cp:revision>
  <dc:subject/>
  <dc:title>Slide 1</dc:title>
</cp:coreProperties>
</file>